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9952-879E-441F-9F6F-CA1B6596F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4BB3-E704-45AE-B1B3-4FA13437F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67D3-4E1A-44C0-87F6-1E56CB6D8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4000-027F-44B9-9D16-3C1D2ADF7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1DDA46-38AA-4F03-AB52-8016061FF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014446-F8D9-44A2-BCCA-E48CCF383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C89E99-2BF7-45A4-B619-4F5456584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A4AF4C-1617-405C-9EBF-125E91536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21038A-EF3B-4F00-BABD-950C5AA07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B62DDD-065A-4D9C-B7F5-DCD026BB6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CB6415-5D9F-4C11-B2CC-4F69FF019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A923-8535-4898-8D7F-E712E8C74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B11003-A692-44C3-830E-2669F60A9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19C172-7E73-4BA5-ACEB-F835651D7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C76ABE-B048-476B-9404-6E5447435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0AF188-3DC8-4DE3-A20B-2E0C965FB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F7E564-8193-4029-950C-9EB2B1AD3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92A9-4955-41EB-885C-60FED4A32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F535-519C-4C5E-909D-A281575F4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A927-77A8-4D5F-AB90-7E1362FEB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CCA0-8726-4D90-848F-377752533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B445-3DF8-4100-A5CB-D1563FB6D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DE32-C42E-4138-9ADF-7EEF181DD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5F8D-FCA6-49D0-B7C3-E81B65C1D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5522B-A703-4FE5-A742-4257B91A253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638F9-E111-4564-82A5-C5A8CDE6344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80880" y="1523880"/>
            <a:ext cx="84582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Question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gel electrophoresi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happens to DNA in gel electrophoresi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direction does DNA move toward in gel electrophoresi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to you compare an unknown sample to a known DNA sampl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2T19:08:16Z</dcterms:created>
  <dc:creator>URI</dc:creator>
  <dc:description/>
  <dc:language>en-US</dc:language>
  <cp:lastModifiedBy>URI</cp:lastModifiedBy>
  <dcterms:modified xsi:type="dcterms:W3CDTF">2009-12-22T19:18:22Z</dcterms:modified>
  <cp:revision>2</cp:revision>
  <dc:subject/>
  <dc:title>Slide 1</dc:title>
</cp:coreProperties>
</file>